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24D2-097E-41E4-90D5-BA3B65AD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C570-622C-4CE1-AC4A-55F406AE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A901-4499-4F8F-B11E-15432A39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A4AE-7303-4A08-BB8C-885B9618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410A-A2CF-4371-8FB6-1618894B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36A-428A-4813-B92B-37BB42A2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8537-DA00-4B30-8DE3-A587701A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7BB3-AAC9-4E85-958E-AC0769E8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7890-0A2F-4043-958D-1250E0E7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DEBB-EB30-498F-90C6-E1DE874A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5F20-B9B6-4EC4-8B2B-06741FAD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1742-8103-4164-AC8F-4AD2C4E2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2937-1B65-4AB4-94D1-364ABD3ECEF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Exp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Wilfred Ow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231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ercil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sali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sent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incessant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poign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elancho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ran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success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43280" y="160020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howing no pity or kindn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front military line that protects against the enemy; noticeable or str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oldiers guarding somet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ontinual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enetrating, effective, shar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ines of people or ob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llowing one after anoth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noncha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teal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gloz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rejo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vinc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o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hrivel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uck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16000" y="1628640"/>
            <a:ext cx="532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sual lack of concer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cre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de smal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eleb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conqu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wil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ying and wrink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tracting into wrink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4920" y="1628640"/>
            <a:ext cx="231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im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etaph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27280" y="160020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hrase used to make 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ption more vivid by using ‘like’ or ‘as’ to compare two th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rect comparison between two things without using ‘like’ or ‘as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600200"/>
            <a:ext cx="27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erson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llit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ing human qualities to describe  inanimat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peated use of the same consonant in a phrase or 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5-01-13T16:09:30Z</dcterms:modified>
  <cp:revision>35</cp:revision>
  <dc:subject/>
  <dc:title>La Belle Dame Sans Merci</dc:title>
</cp:coreProperties>
</file>